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9675-4FA9-45FE-B265-6DB2A27A2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2EEF-94C3-43E9-8E36-3E2F50A20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9FB8-3D0B-4A1D-ABAF-7B66B8ADD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231D-D3E5-42E8-AD15-AA24F02D9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CF80F-1606-40D4-9D8B-8054FAFD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45395-544D-47E9-8CF3-494CD78C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C119D-3E36-40E6-B268-42CB6A77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9E8AD-FAAC-4595-B4F8-6478C428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529EF-41F8-4E0E-9F60-8533D1E8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3DB72-F491-46FB-9C9D-543A477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BD064-B14C-4FB6-A181-21149D36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F682-F307-4BC3-8BC4-0A3A34472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3B2DF-F793-4299-97A1-82F0DE2F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F9C28-CACB-408F-9DEF-28A32E82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76A7A-F6BE-40B3-8C08-599A5496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96D8E-5CEF-4078-A9B1-CC8AFCA6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98837-8E14-4512-A90D-6AB25F51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FFD7-4C7A-4EBF-AB88-B817FC26C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76DB-CB62-4BA5-8114-15A47A41F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2806-3ADE-4898-8D8A-A9DA4FD53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991A-52F7-474A-9242-2376030F9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A10C-D734-4E8C-AE41-9842B781E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9C8C-77F3-4606-B124-8129E7436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A05A-BCD5-47D4-B120-A9625428F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3961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fld id="{CF4A2B6D-506A-4644-85B6-AB18BC9CF590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5760" cy="1049400"/>
            <a:chOff x="0" y="2438280"/>
            <a:chExt cx="9005760" cy="104940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08120" cy="471600"/>
              <a:chOff x="290520" y="2546280"/>
              <a:chExt cx="708120" cy="47160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4880" cy="47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200" y="2546280"/>
                <a:ext cx="32544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4760" cy="471600"/>
              <a:chOff x="414360" y="2968560"/>
              <a:chExt cx="734760" cy="47160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160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360" y="2968560"/>
                <a:ext cx="36576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57280" cy="419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28440" cy="10494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59800"/>
              <a:ext cx="868968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7C0EF8-A555-4B3A-AD3F-E81961FAE770}" type="slidenum">
              <a: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D8FA-7C79-4BF8-92E2-4E92566A2B6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5360" y="40644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3   SONE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3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Each synchronous transfer signal STS-n is composed of 8000 frames. Each frame is a two-dimensional matrix of bytes with 9 rows by 90 × n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rame, Byte, and Bit Transmission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TS-1 Frame Format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524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F239-4937-40F8-8902-9C86A8D48D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2286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066680"/>
            <a:ext cx="8763120" cy="1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8440" y="45720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4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An STS-1 and an STS-n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8520" y="2689200"/>
            <a:ext cx="836460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10BE-89B2-480D-BD1A-687560FFD28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000" y="76212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5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s in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866440" cy="238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FA66-4088-4A77-97E1-6C107D7EA7A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8640" y="441972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360" y="2759040"/>
            <a:ext cx="8077320" cy="1556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 SONET STS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ignal is transmitted at 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8000 frames per sec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B15D-6ED4-486B-9CD8-B34287F2C66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ach byte in a SONET frame can carry a digitized voice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13A9-F606-4084-B2B4-1FD694C6DC1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295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Find the data rate of an STS-1 sig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5909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TS-1, like other STS signals, sends 8000 frames per second. Each STS-1 frame is made of 9 by (1 × 90) bytes. Each byte is made of 8 bits. The data rat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7898040" cy="37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2985-412F-41E3-B200-B753275847D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523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Find the data rate of an STS-3 sig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5909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TS-3, like other STS signals, sends 8000 frames per second. Each STS-3 frame is made of 9 by (3 × 90) bytes. Each byte is made of 8 bits. The data rat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4761000"/>
            <a:ext cx="7980480" cy="42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7F84-52D8-44BD-AF5E-736363A5D46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8640" y="441972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360" y="2759040"/>
            <a:ext cx="8077320" cy="1556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 SONET, the data rate of an STS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ignal is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times the data 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f an STS-1 sig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4B5A-2F20-46C0-A593-92820E0CE6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295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What is the duration of an STS-1 frame? STS-3 frame? STS-n fr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1068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SONET, 8000 frames are sent per second. This means that the duration of an STS-1, STS-3, or STS-n frame is the same and equal to 1/8000 s, o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125 μ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5F72-AFA4-4EE1-9360-08ACEDF0906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ONET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uration of any frame is 125 μ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D3C5-4AFB-4FB5-97C4-1E9A1F4F13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NET was developed by ANSI;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DH was developed by ITU-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1981080"/>
            <a:ext cx="1139760" cy="563760"/>
            <a:chOff x="457200" y="1981080"/>
            <a:chExt cx="1139760" cy="5637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57200" y="198108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91480" y="19810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A7AF-14E2-4CB6-9FF4-207ED67DB1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800" y="380880"/>
            <a:ext cx="42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6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 over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4008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66680" y="1368360"/>
            <a:ext cx="8809200" cy="411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C052-2CDB-4B94-A32C-8D4D04DFA87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000" y="38088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7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: section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46080" y="1476360"/>
            <a:ext cx="7251840" cy="39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82D3-B21F-4B1E-BCA3-87EB970F3AA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8640" y="441972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360" y="2759040"/>
            <a:ext cx="8077320" cy="1556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ction overhead is recalculated for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each SONET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(regenerators and multiplex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" y="1947960"/>
            <a:ext cx="1139760" cy="563400"/>
            <a:chOff x="457200" y="1947960"/>
            <a:chExt cx="1139760" cy="56340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457200" y="1947960"/>
              <a:ext cx="113976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91480" y="194796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0156-6705-4289-8434-4B5438B3AEA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2286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1066680"/>
            <a:ext cx="8763120" cy="1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8440" y="45720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8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: line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90720" y="1793880"/>
            <a:ext cx="7238880" cy="399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06D9-A790-4EBA-8A59-D9C1419E7E5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000" y="38088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9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: path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64008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66640" y="1295280"/>
            <a:ext cx="8401320" cy="50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400C-35CF-4EA1-A129-BA867AD07BA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8640" y="396252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th overhead is only calculated for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end-to-end (at STS multiplex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EC53-8DE4-4CAC-B3B2-06AA4D6FC00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3120" y="76212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Table 17.2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Overhead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22120" y="1295280"/>
            <a:ext cx="8464680" cy="456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D9A0-9797-4DE4-85C7-D3AD9AA6E66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44360" y="360360"/>
            <a:ext cx="8856720" cy="54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0FC8-41F2-451E-B594-68911C78DF0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295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What is the user data rate of an STS-1 frame (without considering the overhead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310680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The user data part in an STS-1 frame is made of 9 rows and 84 columns (90 - 3 line and section overhead – 1 path overhead - 2 fix stuffing). So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T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r data rate= 8000 </a:t>
            </a:r>
            <a:r>
              <a:rPr b="0" lang="en-CA" sz="2800" spc="-1" strike="noStrike">
                <a:solidFill>
                  <a:srgbClr val="000000"/>
                </a:solidFill>
                <a:latin typeface="Tunga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9 </a:t>
            </a:r>
            <a:r>
              <a:rPr b="0" lang="en-CA" sz="2800" spc="-1" strike="noStrike">
                <a:solidFill>
                  <a:srgbClr val="000000"/>
                </a:solidFill>
                <a:latin typeface="Tunga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1 </a:t>
            </a:r>
            <a:r>
              <a:rPr b="0" lang="en-CA" sz="2800" spc="-1" strike="noStrike">
                <a:solidFill>
                  <a:srgbClr val="000000"/>
                </a:solidFill>
                <a:latin typeface="Tunga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84) </a:t>
            </a:r>
            <a:r>
              <a:rPr b="0" lang="en-CA" sz="2800" spc="-1" strike="noStrike">
                <a:solidFill>
                  <a:srgbClr val="000000"/>
                </a:solidFill>
                <a:latin typeface="Tunga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8 = 48.384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EE54-3A16-4DA0-B88D-989D652795D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31640" y="492120"/>
            <a:ext cx="8320320" cy="5195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535640" y="583236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PE= 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10C7-15D0-4769-9BE1-CF45B2C8BCB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7160" y="40644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1  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005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Let us first introduce the architecture of a SONET system: signals, devices, and conn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ignals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ONET Devices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11DF-B830-40EB-BC2E-3EC65C93DB2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2280" y="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838080"/>
            <a:ext cx="8763120" cy="1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3760" y="2286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0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Offsetting of SPE related to frame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64008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76400" y="1039680"/>
            <a:ext cx="5110200" cy="520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4F74-57BE-41B3-A3B6-D14BC9C0A6F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11430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840" y="380880"/>
            <a:ext cx="7300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1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The use of Administrative unit 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H1 and H2 pointers are used to show the start of an SPE in a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58680" y="2436840"/>
            <a:ext cx="6737400" cy="27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BE1E-DAB0-42D7-9363-682A22878BC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1523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What are the values of H1 and H2 if an SPE starts at byte number 65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31068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The number 650 can be expressed in four hexadecimal digits as 0x028A. This means the value of H1 is </a:t>
            </a:r>
            <a:r>
              <a:rPr b="1" i="1" lang="en-CA" sz="2800" spc="-1" strike="noStrike">
                <a:solidFill>
                  <a:srgbClr val="3333cc"/>
                </a:solidFill>
                <a:latin typeface="Times New Roman"/>
              </a:rPr>
              <a:t>0x02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 and the value of H2 is </a:t>
            </a:r>
            <a:r>
              <a:rPr b="1" i="1" lang="en-CA" sz="2800" spc="-1" strike="noStrike">
                <a:solidFill>
                  <a:srgbClr val="3333cc"/>
                </a:solidFill>
                <a:latin typeface="Times New Roman"/>
              </a:rPr>
              <a:t>0x8A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00E2-BC72-44B7-A513-198F01E8559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52360" y="1886040"/>
            <a:ext cx="6847200" cy="36590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232000" y="452520"/>
            <a:ext cx="5327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000" spc="-1" strike="noStrike">
                <a:solidFill>
                  <a:srgbClr val="00339a"/>
                </a:solidFill>
                <a:latin typeface="TimesNewRomanPSMT"/>
                <a:ea typeface="TimesNewRomanPSMT"/>
              </a:rPr>
              <a:t>SONET Hierarch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2949-46BD-4EDA-862E-369E4D71756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7160" y="406440"/>
            <a:ext cx="60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6   VIRTUAL TRIBUT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4479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NET is designed to carry broadband payloads. Current digital hierarchy data rates, however, are lower than STS-1. To make SONET backward-compatible with the current hierarchy, its frame design includes a system of virtual tributaries (VTs).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irtual tributary is a partial payload that can be inserted into an STS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5384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ypes of V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240" y="49086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F2BB-22AE-4104-8189-0A8B593988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1680" y="76212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25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Virtual tribut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227240" y="2317680"/>
            <a:ext cx="6316560" cy="25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E381-7144-42AD-B5DB-3C38CF35847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9880" y="76212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26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Virtual tributary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194600" cy="385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1CDB-2B07-4A49-8418-2F02EA2E401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7160" y="40644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4   STS MULTIPL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138456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In SONET, frames of lower rate can be synchronously time-division multiplexed into a higher-rate frame. For example, three STS-1 signals (channels) can be combined into one STS-3 signal (channel), four </a:t>
            </a:r>
            <a:br>
              <a:rPr sz="2800"/>
            </a:b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TS-3s can be multiplexed into one STS-12, 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yte Interleaving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ncatenated Signal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Add/Drop 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524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C12F-97FE-4EC2-814A-5A66974D1ED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8440" y="38088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7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S multiplexing/de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6040" y="2638440"/>
            <a:ext cx="8739360" cy="194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F338-1459-49E7-92F8-8A9CE6AF6AE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 SONET, all clocks in the network are locked to a master c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9E5C-0FAD-4657-8BA6-AA320BD3F4B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9440" y="380880"/>
            <a:ext cx="36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Table 17.1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ONET/SDH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5200" y="914400"/>
            <a:ext cx="8848800" cy="515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ED47-9B4E-4485-9F2F-85CFC203DE7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2280" y="2286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1066680"/>
            <a:ext cx="8763120" cy="1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3120" y="4572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3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Byte interle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20640" y="1905120"/>
            <a:ext cx="7761240" cy="327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45AE-20CA-45E3-B8D2-B5CDF731421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1680" y="38088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4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An STS-3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57360" y="1011240"/>
            <a:ext cx="7724520" cy="500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7F68-C778-454B-81C5-5CEF40FCC96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5840" y="380880"/>
            <a:ext cx="85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6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Dropping and adding STS-1 frames in an add/drop multiplex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28600" y="2192400"/>
            <a:ext cx="8712360" cy="321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7BE8-A341-4E4D-898F-98512A61A004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" y="76212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A simple network using SONE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2240" y="1828800"/>
            <a:ext cx="8875440" cy="418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8F0C-EF3F-4DAB-87E3-6183BD3B33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7160" y="40644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2   SONET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6765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The SONET standard includes four functional layers: the </a:t>
            </a: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photonic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ection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line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path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 layer. They correspond to both the physical and the data link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05756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ath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Line Layer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ect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hotoni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vice–Lay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240" y="358128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E3A5-0147-46DE-A7D5-7C85841F91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NET defines four layers: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th, line, section, and phot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5C7F-36C2-42A2-83C4-882DB183DB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760" y="76212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2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ONET layers compared with OSI or the Internet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1840" y="1905120"/>
            <a:ext cx="6751440" cy="379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035B-50CA-49A8-8C19-F3FD2ADF99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9880" y="380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3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Device–layer relationship in S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11120" y="1219320"/>
            <a:ext cx="7970760" cy="479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B2ED-EB1D-4D98-986A-656B16C6C4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Behrouz Forouzan</cp:lastModifiedBy>
  <dcterms:modified xsi:type="dcterms:W3CDTF">2006-03-04T20:21:41Z</dcterms:modified>
  <cp:revision>169</cp:revision>
  <dc:subject/>
  <dc:title>PowerPoint Presentation</dc:title>
</cp:coreProperties>
</file>